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347-EC3E-4148-B4E9-296597D5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2F2-B23E-497A-9810-479DFA53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C20-39AE-4EA2-AAA0-57B7998C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5176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7464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02852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65176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27464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6EE-4AAA-4A87-BC0E-F8784F23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AAD77-3BA2-4878-8B91-68635847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969C7-8A0E-4E82-BA71-FBF68D2E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ABEFC-0630-44A9-B7C9-DB96A9EA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F4C67-BB60-44BD-9BA1-0BDE1C15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814C4-E1B8-47DB-A14A-E2E96CCA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10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6DBE8-9099-42C9-A26E-47A0D33A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75B85-C4AD-49C8-9D2D-DB5838E8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F27-959F-45F4-A30A-91EBCFB6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041D1-7C15-4D07-913B-EA9AE7DE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7E1C7-D92A-481E-9476-055CDE76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FE230-5AD2-4472-A535-22E9283D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FCDF3-8ACE-42C3-8EEE-6E991B37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65176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27464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02852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65176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427464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C8310-1603-415D-A79F-9FEFB7FC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EEB-1519-43D8-B1ED-9608F1B4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CAD-2BDF-4313-B48A-3780DC1C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C3B-55F3-4582-BB82-700C64C4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10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476-3215-4378-BEA5-312691E1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F81-EAE7-484A-9BAD-333E0908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F21-04C3-4B8B-93ED-DF954EF9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FC9-7FE3-424C-BFEF-03263B52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1" name=""/>
            <p:cNvSpPr/>
            <p:nvPr/>
          </p:nvSpPr>
          <p:spPr>
            <a:xfrm>
              <a:off x="0" y="6502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686480" y="8350200"/>
            <a:ext cx="217152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026560"/>
            <a:ext cx="5886360" cy="1142280"/>
            <a:chOff x="0" y="8026560"/>
            <a:chExt cx="5886360" cy="1142280"/>
          </a:xfrm>
        </p:grpSpPr>
        <p:sp>
          <p:nvSpPr>
            <p:cNvPr id="5" name=""/>
            <p:cNvSpPr/>
            <p:nvPr/>
          </p:nvSpPr>
          <p:spPr>
            <a:xfrm>
              <a:off x="1771560" y="8026560"/>
              <a:ext cx="3857400" cy="11340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2959920" y="8026560"/>
              <a:ext cx="2926440" cy="1142280"/>
              <a:chOff x="2959920" y="8026560"/>
              <a:chExt cx="2926440" cy="1142280"/>
            </a:xfrm>
          </p:grpSpPr>
          <p:sp>
            <p:nvSpPr>
              <p:cNvPr id="7" name=""/>
              <p:cNvSpPr/>
              <p:nvPr/>
            </p:nvSpPr>
            <p:spPr>
              <a:xfrm>
                <a:off x="4700520" y="8041320"/>
                <a:ext cx="1185840" cy="1127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187080" y="8026560"/>
                <a:ext cx="221400" cy="8355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07200" y="8240040"/>
                <a:ext cx="450000" cy="5731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19280" y="818280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59920" y="816804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026560"/>
              <a:ext cx="4733640" cy="11322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14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C836-04E5-42FB-934A-A993D549B9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4680" y="27000"/>
            <a:ext cx="6858000" cy="9143640"/>
            <a:chOff x="-4680" y="27000"/>
            <a:chExt cx="6858000" cy="9143640"/>
          </a:xfrm>
        </p:grpSpPr>
        <p:sp>
          <p:nvSpPr>
            <p:cNvPr id="62" name=""/>
            <p:cNvSpPr/>
            <p:nvPr/>
          </p:nvSpPr>
          <p:spPr>
            <a:xfrm>
              <a:off x="-4680" y="6529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680" y="2700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1440" y="8358120"/>
            <a:ext cx="217188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8045280"/>
            <a:ext cx="5884200" cy="1134720"/>
            <a:chOff x="-1440" y="8045280"/>
            <a:chExt cx="5884200" cy="1134720"/>
          </a:xfrm>
        </p:grpSpPr>
        <p:sp>
          <p:nvSpPr>
            <p:cNvPr id="66" name=""/>
            <p:cNvSpPr/>
            <p:nvPr/>
          </p:nvSpPr>
          <p:spPr>
            <a:xfrm>
              <a:off x="1770120" y="8045280"/>
              <a:ext cx="3857760" cy="113472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958840" y="8045280"/>
              <a:ext cx="2923920" cy="1134360"/>
              <a:chOff x="2958840" y="8045280"/>
              <a:chExt cx="2923920" cy="1134360"/>
            </a:xfrm>
          </p:grpSpPr>
          <p:sp>
            <p:nvSpPr>
              <p:cNvPr id="68" name=""/>
              <p:cNvSpPr/>
              <p:nvPr/>
            </p:nvSpPr>
            <p:spPr>
              <a:xfrm>
                <a:off x="4699440" y="8060040"/>
                <a:ext cx="1183320" cy="11196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86000" y="8045280"/>
                <a:ext cx="221400" cy="8362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6120" y="8258760"/>
                <a:ext cx="450000" cy="5734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18200" y="820152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8840" y="8186760"/>
                <a:ext cx="49680" cy="1713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8045280"/>
              <a:ext cx="4734000" cy="11329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75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4A33-C7B7-42C6-A04B-D24B56D7BE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7920" y="21960"/>
            <a:ext cx="5545440" cy="83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ff"/>
                </a:solidFill>
                <a:uFillTx/>
                <a:latin typeface="Comic Sans MS"/>
              </a:rPr>
              <a:t>LE MEURTRE DE LA FALA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omic Sans MS"/>
              </a:rPr>
              <a:t>Synop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Samedi 3 Juin 2006 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Cet après-midi avait lieu l’enregistrement de l’émission  TV « Une soirée pour l’Entre-Aide », en faveur des handicapés physiqu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Un vrai carton !! Tous les records d’audimats vont être battu grâce à l’animateur vedette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Michel Delerme, 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et à la présence sur le plateau, de nombreux artistes dont le célèbre chanteur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Dany Gaccho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 et de sa femme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Marie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, qui  est en fauteuil roula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Un grand cocktail est organisé à 18h, chez Dany et Marie, dans leur villa qui longe la cô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Alors que la fête bat son plein, Marie disparaît pendant quelques heu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Il commence à faire froid et il y a un vent terrib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ers 20h, Michel Delerme part à sa recherche… il revient épouvanté… il vient de retrouver le corps de Marie sans vie… son fauteuil a été poussé de la falais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A vous de jouer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Bonne mur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16:53:36Z</dcterms:created>
  <dc:creator>Mulder</dc:creator>
  <dc:description/>
  <dc:language>en-US</dc:language>
  <cp:lastModifiedBy>Mulder</cp:lastModifiedBy>
  <dcterms:modified xsi:type="dcterms:W3CDTF">2006-05-20T08:09:47Z</dcterms:modified>
  <cp:revision>3</cp:revision>
  <dc:subject/>
  <dc:title>Diapositive 1</dc:title>
</cp:coreProperties>
</file>