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7F3-A9BC-4CCD-A532-F575FD1D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172-9057-4A94-A14C-2FFCB870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9D5-D111-45E8-8DFD-3498ACA0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30D-DAEF-44B2-987A-B8F33D8F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383-0196-4B47-A8E8-C1B25BB1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177-A788-4FBD-BFE2-514E738A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661-4CE1-471C-939D-5C27FED5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BEF-2D31-42B2-A01A-8BC6A7C8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588-AB8B-46E7-B492-33B386B9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A58-C3ED-486D-8663-4B8B673A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0C0-E200-41F3-A385-C2CD1A6A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EC0-DD0F-4DA6-999D-91A574D9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EBF8-6C72-44C3-AC9F-9F50ADCB4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76212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N.A.L.C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 National d’Apprentissage des Langues Or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22096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U.L.C.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lôme de fin de premier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e Chin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41148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diplôme est décerné à Mademoiselle Lydia Raped pour ses résultats aux examens de ju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rec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5257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diplô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5257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ture examin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N00490_" descr=""/>
          <p:cNvPicPr/>
          <p:nvPr/>
        </p:nvPicPr>
        <p:blipFill>
          <a:blip r:embed="rId2"/>
          <a:stretch/>
        </p:blipFill>
        <p:spPr>
          <a:xfrm>
            <a:off x="7391520" y="1905120"/>
            <a:ext cx="175248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EN00490_" descr=""/>
          <p:cNvPicPr/>
          <p:nvPr/>
        </p:nvPicPr>
        <p:blipFill>
          <a:blip r:embed="rId3"/>
          <a:stretch/>
        </p:blipFill>
        <p:spPr>
          <a:xfrm>
            <a:off x="0" y="1981080"/>
            <a:ext cx="1704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20:09:10Z</dcterms:created>
  <dc:creator>Pavilion Notebook User</dc:creator>
  <dc:description/>
  <dc:language>en-US</dc:language>
  <cp:lastModifiedBy>austin powers</cp:lastModifiedBy>
  <dcterms:modified xsi:type="dcterms:W3CDTF">2002-05-27T22:05:31Z</dcterms:modified>
  <cp:revision>2</cp:revision>
  <dc:subject/>
  <dc:title>Présentation PowerPoint</dc:title>
</cp:coreProperties>
</file>