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3F7-D32A-4CF7-8946-3E6848F6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4AF-6AA4-4299-BB79-E4C3EAAF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A28-6E22-4985-B4C6-D9CB7AD6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657-A068-468E-84C7-07AA9BF7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A19-C6F5-415B-B0FF-DB1F1586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37F-D152-4FB2-9D25-2ED49B05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238-9279-47F0-8C37-7F272D2D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FCB-D674-4DD2-BD21-D7D13229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D13-EB54-4974-B3C0-0EF158E3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91F-1CF3-4626-8231-CA47EBEA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EC9-82CD-446F-B4CA-2A39D2E3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99D-B49B-4B30-B04C-BEAB496F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3DEC-2807-42AA-92C6-7CEF0B29C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ole d’Infirmière de la ville de Ma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’é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3526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fin d’études de l’anné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M00173_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BD07834_" descr=""/>
          <p:cNvPicPr/>
          <p:nvPr/>
        </p:nvPicPr>
        <p:blipFill>
          <a:blip r:embed="rId3"/>
          <a:stretch/>
        </p:blipFill>
        <p:spPr>
          <a:xfrm>
            <a:off x="0" y="2590920"/>
            <a:ext cx="2104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05Z</dcterms:modified>
  <cp:revision>4</cp:revision>
  <dc:subject/>
  <dc:title>Présentation PowerPoint</dc:title>
</cp:coreProperties>
</file>