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332-FFCD-4E4B-ADF4-AC8C7C2F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478-9D0D-4E4C-BB0D-51F07CA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D14-EA2C-4075-95CA-D9A10307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345-753A-4957-A5D1-F2F55F26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68C-AC2A-4ABD-9BAB-6108073F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E71-FE0E-4B89-AF8E-681D6EDD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193-B504-4BF5-80BC-FDFC976F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847-CF61-4564-814B-D2C7010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CFA-AFE9-42AB-A649-743868EB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DC3-D69E-4443-902F-23C0747B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285-D347-4EF2-8A2E-8C5A26D3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3C3-83C7-4122-B144-1828DE64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180-77CA-4AA9-82EF-3A5BD92C6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1722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0481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81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9718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9528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Rez de Chauss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40384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bliothè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75248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on, Salle à M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imes New Roman"/>
              </a:rPr>
              <a:t>Pièce de j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038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371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: Pla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862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remier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e-L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Cordé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eau de Pa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86600" y="1371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Esca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euxième E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3352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43200" y="6172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0060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715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85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862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951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4479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Mari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1295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295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’a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mbre de Ly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343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ébar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95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e de bains des domes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ambre de Marle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75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16:29:59Z</dcterms:created>
  <dc:creator>Pavilion Notebook User</dc:creator>
  <dc:description/>
  <dc:language>en-US</dc:language>
  <cp:lastModifiedBy>austin powers</cp:lastModifiedBy>
  <dcterms:modified xsi:type="dcterms:W3CDTF">2002-05-06T21:06:28Z</dcterms:modified>
  <cp:revision>8</cp:revision>
  <dc:subject/>
  <dc:title>Présentation PowerPoint</dc:title>
</cp:coreProperties>
</file>