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9E8-92A8-49B1-A8AF-A567A77F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5A5-C72C-4F2C-9151-C92179F0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D37-5547-46CB-B612-94B94CC9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3C5-CA20-4279-976B-DF35BA09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29A6-66FA-4824-A3DF-503ECAFA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232-CCD2-4425-85C0-49AF8DD5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D8B-CA3D-448B-B6CD-37F8B47A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F62-7256-4504-A73A-E1F51D34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F0E-30B0-4340-B119-71BF31D7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428E-172F-4192-95C8-8615560A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8CC6-AA55-4598-8C0D-D33D7422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73D-76E8-42E8-9D7C-0CDDC5BD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479C-EBE2-4459-9781-1E6C06F2B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4495680"/>
            <a:ext cx="571320" cy="50796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4089240"/>
            <a:ext cx="571320" cy="4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62000" y="2666880"/>
            <a:ext cx="2971800" cy="238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2870280"/>
            <a:ext cx="16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Times New Roman"/>
              </a:rPr>
              <a:t>CARTE DE GROUPE (Receveu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76480" y="276876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Mentions biologiques spéci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62000" y="3276720"/>
            <a:ext cx="217188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33880" y="2666880"/>
            <a:ext cx="0" cy="60984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768760"/>
            <a:ext cx="399960" cy="50796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9240" y="3378240"/>
            <a:ext cx="18288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96600"/>
                </a:solidFill>
                <a:latin typeface="Times New Roman"/>
              </a:rPr>
              <a:t>PREMIERE DETERMINATION Nom et Adresse Laborato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aboratoire d’Analyses de Biologie Médicale VERDIER J.F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 Rue Saint Laurent – 75005 PAR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62000" y="4089240"/>
            <a:ext cx="2971800" cy="914400"/>
          </a:xfrm>
          <a:prstGeom prst="rect">
            <a:avLst/>
          </a:prstGeom>
          <a:noFill/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2000" y="4597560"/>
            <a:ext cx="800280" cy="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62280" y="4089240"/>
            <a:ext cx="0" cy="91440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089240"/>
            <a:ext cx="0" cy="50832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19112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Chef de Laboratoi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05080" y="40892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996600"/>
                </a:solidFill>
                <a:latin typeface="Times New Roman"/>
              </a:rPr>
              <a:t>N° date examen </a:t>
            </a:r>
            <a:r>
              <a:rPr b="0" lang="fr-FR" sz="600" spc="-1" strike="noStrike">
                <a:solidFill>
                  <a:srgbClr val="000000"/>
                </a:solidFill>
                <a:latin typeface="Times New Roman"/>
              </a:rPr>
              <a:t>E1361               06-02-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597560"/>
            <a:ext cx="914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rélèvement effectué le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06.02.8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6600"/>
                </a:solidFill>
                <a:latin typeface="Times New Roman"/>
              </a:rPr>
              <a:t>Par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ARTH 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62280" y="4394160"/>
            <a:ext cx="120024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196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0520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91080" y="4089240"/>
            <a:ext cx="0" cy="91440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91080" y="480060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591080" y="46990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91080" y="459756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91080" y="449568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33480" y="4394160"/>
            <a:ext cx="39996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591080" y="4292640"/>
            <a:ext cx="34272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33840" y="4089240"/>
            <a:ext cx="28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u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34920" y="4210200"/>
            <a:ext cx="30888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C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4089240"/>
            <a:ext cx="2412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Nég -       -      +      -      +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07844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AB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0800" y="4089240"/>
            <a:ext cx="0" cy="3049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089240"/>
            <a:ext cx="609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96600"/>
                </a:solidFill>
                <a:latin typeface="Times New Roman"/>
              </a:rPr>
              <a:t>Détermination R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336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0500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4808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19440" y="4292640"/>
            <a:ext cx="0" cy="1015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2280" y="4383000"/>
            <a:ext cx="62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NOM Prénom        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RAPED Lydia            </a:t>
            </a:r>
            <a:r>
              <a:rPr b="0" lang="fr-FR" sz="500" spc="-1" strike="noStrike">
                <a:solidFill>
                  <a:srgbClr val="996600"/>
                </a:solidFill>
                <a:latin typeface="Times New Roman"/>
              </a:rPr>
              <a:t>Date Lieu de Naissance</a:t>
            </a:r>
            <a:r>
              <a:rPr b="0" lang="fr-FR" sz="500" spc="-1" strike="noStrike">
                <a:solidFill>
                  <a:srgbClr val="000000"/>
                </a:solidFill>
                <a:latin typeface="Times New Roman"/>
              </a:rPr>
              <a:t> 20.02.57 Pétrori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3987720"/>
            <a:ext cx="571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fr-FR" sz="900" spc="-1" strike="noStrike">
                <a:solidFill>
                  <a:srgbClr val="ffffff"/>
                </a:solidFill>
                <a:latin typeface="Times New Roman"/>
              </a:rPr>
              <a:t> Rh</a:t>
            </a: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fr-FR" sz="900" spc="-1" strike="noStrike">
                <a:solidFill>
                  <a:srgbClr val="ffffff"/>
                </a:solidFill>
                <a:latin typeface="Times New Roman"/>
              </a:rPr>
              <a:t>  NEGATIF</a:t>
            </a:r>
            <a:r>
              <a:rPr b="1" lang="fr-FR" sz="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449568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L   NEGATIF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14880" y="4724280"/>
            <a:ext cx="5713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.A.I. : Néga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472428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724280"/>
            <a:ext cx="0" cy="279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72428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5:40:17Z</dcterms:created>
  <dc:creator>Noël BELTRAMIN</dc:creator>
  <dc:description/>
  <dc:language>en-US</dc:language>
  <cp:lastModifiedBy>austin powers</cp:lastModifiedBy>
  <dcterms:modified xsi:type="dcterms:W3CDTF">2002-05-27T21:57:14Z</dcterms:modified>
  <cp:revision>6</cp:revision>
  <dc:subject/>
  <dc:title>Présentation PowerPoint</dc:title>
</cp:coreProperties>
</file>