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561D-0FCB-4ACB-BC6F-35657FCE6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D3BB-548C-4B93-B4F5-0ACE13F73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11AE-9B52-4021-8747-68B969B45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AA9B-1811-4A70-9F6F-71C987FDD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3432-187F-4ADB-8EE0-7D503EC82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DF64-942C-4ED2-9C15-801A368FA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825C-294F-4CF2-9E56-846D5DE3A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01A6-E4E8-4AB2-82DF-BEB1F96F0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2CE8-A1C9-4543-819E-FC2EAF2FD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AF85-2BFA-4517-B353-156714E94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CAB6-E165-4403-9BBE-A09CC3256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6BC1-2AAD-43F1-B8E1-A3989B4BF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8E873-C543-4932-8CF6-F8A39931C6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533520" y="68580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68580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400800" y="68580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2743200" y="61722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61722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3048120" y="525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3048120" y="29718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85640" y="3886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38862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8120" y="2971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91120" y="29718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943600" y="2971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29718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5410080"/>
            <a:ext cx="76176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295280" y="388584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763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Rez de Chauss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800600" y="4038480"/>
            <a:ext cx="1295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ibliothè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Times New Roman"/>
              </a:rPr>
              <a:t>Pièce de je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33720" y="1752480"/>
            <a:ext cx="27432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on, Salle à Man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Times New Roman"/>
              </a:rPr>
              <a:t>Pièce de je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00400" y="40384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uis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48006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tré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47242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571500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81680" y="1371600"/>
            <a:ext cx="16765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 : Plac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 : Escal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 flipV="1">
            <a:off x="533520" y="68580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68580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68580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743200" y="61722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61722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886200" y="525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886200" y="3886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285640" y="3886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8120" y="38862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0" y="38862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19920" y="3886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5410080"/>
            <a:ext cx="76176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571500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781680" y="13716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 : Escal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95280" y="763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Premier E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520" y="3429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371600" y="34290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657600" y="34290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86400" y="3429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95480" y="685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95480" y="2971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67080" y="685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95480" y="1600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67080" y="1600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267080" y="2971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886200" y="2133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89512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95280" y="3886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29528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38862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144792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mbre de Marie-L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00400" y="129528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r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8120" y="25146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e de Ba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648320" y="12952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mbre de Cordél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114800" y="441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mbre de Pau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76520" y="48006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reau de Pau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086600" y="13716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 Escal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763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Deuxième E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533520" y="68580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68580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400800" y="68580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743200" y="61722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61722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5715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00600" y="38862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285640" y="3886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48120" y="3886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8640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19920" y="3886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5410080"/>
            <a:ext cx="76176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571500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3429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34290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57600" y="34290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486400" y="3429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95480" y="685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95480" y="2971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267080" y="685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895480" y="1600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267080" y="1143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67080" y="2971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886200" y="2133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89512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95280" y="3886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9528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95280" y="38862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144792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mbre de Mari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00400" y="129528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r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48120" y="25146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e de Ba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48320" y="12952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mbre d’am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76920" y="457200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mbre de Lyd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76720" y="43434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ébarr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41936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48120" y="38862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8120" y="5715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8120" y="49528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276720" y="5181480"/>
            <a:ext cx="129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e de bains des domest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00200" y="44197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Chambre de Marlee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7520" y="137160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0T16:29:59Z</dcterms:created>
  <dc:creator>Pavilion Notebook User</dc:creator>
  <dc:description/>
  <dc:language>en-US</dc:language>
  <cp:lastModifiedBy>austin powers</cp:lastModifiedBy>
  <dcterms:modified xsi:type="dcterms:W3CDTF">2002-05-06T21:06:28Z</dcterms:modified>
  <cp:revision>8</cp:revision>
  <dc:subject/>
  <dc:title>Présentation PowerPoint</dc:title>
</cp:coreProperties>
</file>