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EA3-F221-41E0-8A7B-2677A57A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BF-31DB-4BB5-A16C-7002515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349-C4A3-4981-9473-5F63E471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6C7-9D07-43E6-A143-33C29DC2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B3C-57D4-45C6-9969-72F3170E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A08-50F2-42EB-B543-E51C595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835-CB6B-41B0-BFB4-AA8CA19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66B-3112-4C5C-B707-4CF9C41E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33F-5EB7-4811-A58F-F400F160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215-98D0-4396-B218-7BC8EBED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83D-0207-41AC-A7D4-F8EB3FF3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A46-45B8-455A-A716-0593402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B4E-4A94-4585-AB21-D5A1CA51A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cole d’Infirmière de la ville de Mas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828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’ét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3526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fin d’études de l’année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M00173_" descr=""/>
          <p:cNvPicPr/>
          <p:nvPr/>
        </p:nvPicPr>
        <p:blipFill>
          <a:blip r:embed="rId2"/>
          <a:stretch/>
        </p:blipFill>
        <p:spPr>
          <a:xfrm>
            <a:off x="7315200" y="25909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BD07834_" descr=""/>
          <p:cNvPicPr/>
          <p:nvPr/>
        </p:nvPicPr>
        <p:blipFill>
          <a:blip r:embed="rId3"/>
          <a:stretch/>
        </p:blipFill>
        <p:spPr>
          <a:xfrm>
            <a:off x="0" y="2590920"/>
            <a:ext cx="2104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05Z</dcterms:modified>
  <cp:revision>4</cp:revision>
  <dc:subject/>
  <dc:title>Présentation PowerPoint</dc:title>
</cp:coreProperties>
</file>