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FCB-795F-48CA-936B-1A3D146C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D7B-3744-4ED6-91AB-2007310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B82-0888-4EFA-AB54-60038CD9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41A-701F-49A0-A493-C1B300FE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45A-F395-46E7-888B-750473C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E02-8845-42A2-94CF-2C4480F1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40C-5FAF-403F-B7C1-05A668EF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AC4-1E27-4481-97CA-7F69D03C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72A-CF8E-40D4-BC7E-1148AFE8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006-C04B-4F50-A717-745317A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624-4D23-4D98-BE87-F85B972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D37-A4F7-464D-87DB-4FDA7C3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89B6-2557-4FB6-96D9-A49E52AEC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H01691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2743200"/>
            <a:ext cx="3090600" cy="198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3048120"/>
            <a:ext cx="25909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att L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tective Pri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Discrétion en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tactez-moi au 06-57-35-54-78 ou au 01-43-13-70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743200"/>
            <a:ext cx="3200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6:36:37Z</dcterms:created>
  <dc:creator>Pavilion Notebook User</dc:creator>
  <dc:description/>
  <dc:language>en-US</dc:language>
  <cp:lastModifiedBy>austin powers</cp:lastModifiedBy>
  <dcterms:modified xsi:type="dcterms:W3CDTF">2002-05-27T20:40:22Z</dcterms:modified>
  <cp:revision>4</cp:revision>
  <dc:subject/>
  <dc:title>Présentation PowerPoint</dc:title>
</cp:coreProperties>
</file>