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6B4-B93E-4FEE-B8F8-4ABD2BF0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BD2-47A6-433F-8D76-13917CD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766-757E-41EC-A2A0-89457185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38E-92E7-492F-9270-43AF752A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E4D-6B1B-45ED-B120-8BA04F36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DA-D8B7-4CB6-8C6A-118A3ACE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808-B320-4312-B651-E0253C9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AE4-DA9C-4CD8-AE02-3F8021A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FCF-B9C0-41FF-BB29-F8DAA7BA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647-6D9B-4546-91C1-230AAD2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25F-CC7D-4CC9-B8CF-5CDCD72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AA8-6676-4402-B707-9026E2BA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75F1-4946-4D0E-8E86-E99675044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5120" y="1904760"/>
            <a:ext cx="3028680" cy="2732040"/>
            <a:chOff x="1905120" y="1904760"/>
            <a:chExt cx="3028680" cy="2732040"/>
          </a:xfrm>
        </p:grpSpPr>
        <p:sp>
          <p:nvSpPr>
            <p:cNvPr id="42" name=""/>
            <p:cNvSpPr/>
            <p:nvPr/>
          </p:nvSpPr>
          <p:spPr>
            <a:xfrm>
              <a:off x="3962520" y="3733920"/>
              <a:ext cx="571320" cy="507960"/>
            </a:xfrm>
            <a:prstGeom prst="rect">
              <a:avLst/>
            </a:pr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62520" y="3327480"/>
              <a:ext cx="571320" cy="406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1905120"/>
              <a:ext cx="29718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90920" y="210816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996600"/>
                  </a:solidFill>
                  <a:latin typeface="Times New Roman"/>
                </a:rPr>
                <a:t>CARTE DE GROUPE (Receveu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76480" y="200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Mentions biologiques spécia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62000" y="2514600"/>
              <a:ext cx="217188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33880" y="1904760"/>
              <a:ext cx="0" cy="60948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1120" y="2006640"/>
              <a:ext cx="399960" cy="507960"/>
            </a:xfrm>
            <a:prstGeom prst="rect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19240" y="2616120"/>
              <a:ext cx="18288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996600"/>
                  </a:solidFill>
                  <a:latin typeface="Times New Roman"/>
                </a:rPr>
                <a:t>PREMIERE DETERMINATION Nom et Adresse Laboratoi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Laboratoire d’Analyses de Biologie Médicale VERDIER J.F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Times New Roman"/>
                </a:rPr>
                <a:t>38 Rue Saint Laurent – 75005 PARI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2000" y="3327480"/>
              <a:ext cx="2971800" cy="914400"/>
            </a:xfrm>
            <a:prstGeom prst="rect">
              <a:avLst/>
            </a:prstGeom>
            <a:noFill/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2000" y="3835440"/>
              <a:ext cx="80028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62280" y="3327480"/>
              <a:ext cx="0" cy="91440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3327480"/>
              <a:ext cx="0" cy="50796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3381480"/>
              <a:ext cx="6094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Chef de Laboratoi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05080" y="33274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N° date examen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E1363               06-02-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35440"/>
              <a:ext cx="914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rélèvement effectué le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06.02.8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6600"/>
                  </a:solidFill>
                  <a:latin typeface="Times New Roman"/>
                </a:rPr>
                <a:t>Par </a:t>
              </a: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BARTH 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62280" y="3632040"/>
              <a:ext cx="120024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96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520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1080" y="3327480"/>
              <a:ext cx="0" cy="91440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91080" y="403848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91080" y="393696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91080" y="383544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591080" y="37339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33480" y="3632040"/>
              <a:ext cx="39996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4591080" y="3530520"/>
              <a:ext cx="3427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3327480"/>
              <a:ext cx="28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3489480"/>
              <a:ext cx="343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CD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8320" y="3327480"/>
              <a:ext cx="228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Nég -       -      +      -      +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3316320"/>
              <a:ext cx="685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AB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90800" y="3327480"/>
              <a:ext cx="0" cy="30456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19480" y="3336840"/>
              <a:ext cx="590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étermination Rh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500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4808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530520"/>
              <a:ext cx="0" cy="101520"/>
            </a:xfrm>
            <a:prstGeom prst="line">
              <a:avLst/>
            </a:prstGeom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62280" y="3621240"/>
              <a:ext cx="62856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NOM Prénom        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LAHAYE Mariam            </a:t>
              </a:r>
              <a:r>
                <a:rPr b="0" lang="fr-FR" sz="500" spc="-1" strike="noStrike">
                  <a:solidFill>
                    <a:srgbClr val="996600"/>
                  </a:solidFill>
                  <a:latin typeface="Times New Roman"/>
                </a:rPr>
                <a:t>Date Lieu de Naissance</a:t>
              </a: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25.03.75 Mase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62520" y="3225960"/>
              <a:ext cx="5713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fr-FR" sz="900" spc="-1" strike="noStrike">
                  <a:solidFill>
                    <a:srgbClr val="ffffff"/>
                  </a:solidFill>
                  <a:latin typeface="Times New Roman"/>
                </a:rPr>
                <a:t> Rh</a:t>
              </a: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fr-FR" sz="900" spc="-1" strike="noStrike">
                  <a:solidFill>
                    <a:srgbClr val="ffffff"/>
                  </a:solidFill>
                  <a:latin typeface="Times New Roman"/>
                </a:rPr>
                <a:t>  NEGATIF</a:t>
              </a:r>
              <a:r>
                <a:rPr b="1" lang="fr-FR" sz="6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62520" y="3733920"/>
              <a:ext cx="62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ELL   NEGATIF </a:t>
              </a: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3962520"/>
              <a:ext cx="5713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000000"/>
                  </a:solidFill>
                  <a:latin typeface="Times New Roman"/>
                </a:rPr>
                <a:t>R.A.I. : Négativ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52680" y="396252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396252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stin powers</cp:lastModifiedBy>
  <dcterms:modified xsi:type="dcterms:W3CDTF">2002-05-27T21:57:45Z</dcterms:modified>
  <cp:revision>1</cp:revision>
  <dc:subject/>
  <dc:title>PowerPoint Presentation</dc:title>
</cp:coreProperties>
</file>