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9A14-33A5-422A-85ED-EF17B40B2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4472-C2E5-4496-88F4-8BA30CB2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7091-9050-4B96-AFE4-BC2C51117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5586-BDBD-462F-B6AC-6B17276E9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3103-A983-4CF3-8649-2F3553DC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5870-0B0D-4921-AC16-40327FF3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F4A4-A4CB-445D-8DE4-EFAD23F6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CD24-D817-4FE2-BDE8-D03AA758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E9C0-E10B-411F-A2CE-0FC9D98E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53C5-8EB9-461A-8099-DF470DCA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CB99-3960-4593-AE87-0AE08371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E529-7B9C-4A26-8DC4-267A1E16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189A-61FE-4D6C-931F-F6EF7C278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50920" y="260280"/>
            <a:ext cx="8570880" cy="6289920"/>
            <a:chOff x="250920" y="260280"/>
            <a:chExt cx="8570880" cy="62899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250920" y="260280"/>
              <a:ext cx="1982520" cy="18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 txBox="1"/>
            <p:nvPr/>
          </p:nvSpPr>
          <p:spPr>
            <a:xfrm>
              <a:off x="826920" y="1341360"/>
              <a:ext cx="7632720" cy="410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1365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SATURDAY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NIGHT 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MURDER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7020000" y="5157720"/>
              <a:ext cx="1801800" cy="1392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6T19:54:36Z</dcterms:created>
  <dc:creator>bourgau</dc:creator>
  <dc:description/>
  <dc:language>en-US</dc:language>
  <cp:lastModifiedBy>bourgau</cp:lastModifiedBy>
  <dcterms:modified xsi:type="dcterms:W3CDTF">2013-05-06T20:02:23Z</dcterms:modified>
  <cp:revision>2</cp:revision>
  <dc:subject/>
  <dc:title>Diapositive 1</dc:title>
</cp:coreProperties>
</file>